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C10-B4E2-4D95-81FD-41726141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576-1688-4D06-A594-AEB222A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F4D-E761-4E3C-9974-E4770A7A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9DA-3773-49CE-A089-A251C022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456F-71B2-46B5-9A0C-08DBCB07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DD21-BB6A-481F-8CF0-19615C6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E808-F413-4D56-9F89-29E74C2E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21E-9A62-4366-9250-028302D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7887-8F20-4E74-A40B-AED14FB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D7F7-65F5-497E-89A8-0D90326F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1AB3-F28E-4F0D-9FFC-3DB64F5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5AC-45D0-4C08-9B92-31E80F20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91D-BA69-4A3C-9B9C-9D1B704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58E3-DB5F-4E06-BAB9-58F7B0E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0DEC-681D-40FF-A2DB-EDBAB85A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ED60-6F3A-47B1-88FE-1FDD051C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96C5-F44F-4BE9-B304-88B2B9D2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D5F1-7A3F-40F2-AF4C-90103E01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3101-2217-4EF4-BB43-2681488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144A-07AA-4FBD-B04A-17A4C13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66BE-A7AF-447E-B624-8A552F2C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0A29-C621-4966-A04D-A567197A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43B-1819-4EB7-896B-F45A63E0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67DD-5A6F-44DD-9BCD-D2327A17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651E-12E5-4D36-B905-5B003A3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BE9D-FE00-446D-981B-F7D6972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4110-C389-47EC-AC21-1FF3169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D928-D647-4B89-A86A-CFA5C36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3CED-FD12-47BD-ADF7-6F3BDEFF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C2C4-46B1-4A75-911E-93804AFB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5092-0A0E-4663-B5FC-37AEDD99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86E0-8111-4C15-842F-6B5A91E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BC34-4EE0-4151-85B2-1E4B9D0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B1A-E9F5-4728-8BD7-87DD66B6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A233-95A5-4447-BAC5-94132031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27CE-B75A-488D-8914-33D115D3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F370-4A50-4D9B-9628-F44F757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8620-4AB3-44FA-B556-56AE18A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C72F-8884-4B47-B47F-16210F65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B75C-5FC5-42D4-BE4D-B11FB54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48F8-B682-46EA-A32A-51E0671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7123-7939-4105-89ED-C514923F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8AB8-57B6-4409-B56A-CA404C82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F34-7CEC-47E2-B71D-928261D5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1F7-9F66-4EC3-A42C-502F025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2AB-9A70-4576-A70E-301CB15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79C-FBC0-4E14-992B-8E7A274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5F5-7499-4B46-9D6A-0F65DAB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EEA-EFDD-4EA5-8635-64CCA5E2B488}" type="slidenum">
              <a:rPr b="0" lang="ro-RO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CF3A-E7DE-4361-B3E7-CAC104B720B0}" type="slidenum">
              <a:rPr b="0" lang="ro-RO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DF23-65D8-4B43-82A6-08D747C9C213}" type="slidenum">
              <a:rPr b="0" lang="ro-RO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2CAC-C169-4D90-B73C-CB6149950C50}" type="slidenum">
              <a:rPr b="0" lang="ro-RO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reptunghi 8" descr=""/>
          <p:cNvPicPr/>
          <p:nvPr/>
        </p:nvPicPr>
        <p:blipFill>
          <a:blip r:embed="rId1"/>
          <a:stretch/>
        </p:blipFill>
        <p:spPr>
          <a:xfrm>
            <a:off x="49320" y="109440"/>
            <a:ext cx="9191520" cy="1779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3059280" y="1052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4179960" cy="414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3"/>
          <a:stretch/>
        </p:blipFill>
        <p:spPr>
          <a:xfrm>
            <a:off x="4786200" y="1857240"/>
            <a:ext cx="40006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642960" y="1000080"/>
            <a:ext cx="82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3. Realiz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Că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ut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si selection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inform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i si imagini semnificative despre cele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3 revoluții burgheze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pentru a le organiza intr-o prezentare Power Po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ealiz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scurte descrieri ale acesto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dentific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asemănările și deosebirile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elat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un eveniment istoric important care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v-a atras atenți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3920" y="856800"/>
            <a:ext cx="59058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1" lang="ro-RO" sz="3600" spc="-1" strike="noStrike">
                <a:solidFill>
                  <a:srgbClr val="04617b"/>
                </a:solidFill>
                <a:latin typeface="Calibri"/>
              </a:rPr>
              <a:t>Tim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8920" y="981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89ca3"/>
                </a:solidFill>
                <a:latin typeface="Constantia"/>
              </a:rPr>
              <a:t>    </a:t>
            </a:r>
            <a:r>
              <a:rPr b="1" lang="fr-FR" sz="3200" spc="-1" strike="noStrike">
                <a:solidFill>
                  <a:srgbClr val="089ca3"/>
                </a:solidFill>
                <a:latin typeface="Constantia"/>
              </a:rPr>
              <a:t>-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3 sapt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m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â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ni pe parcursul carora elevii vor prezenta profesorului realiz</a:t>
            </a:r>
            <a:r>
              <a:rPr b="1" lang="ro-RO" sz="3200" spc="-1" strike="noStrike">
                <a:solidFill>
                  <a:srgbClr val="089ca3"/>
                </a:solidFill>
                <a:latin typeface="Constantia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rile intermediare, la fiecare or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 de curs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    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-2h/saptamana acas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9ca3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089ca3"/>
                </a:solidFill>
                <a:latin typeface="Times New Roman"/>
              </a:rPr>
              <a:t>Prezentarea proiectulu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4617b"/>
                </a:solidFill>
                <a:latin typeface="Constantia"/>
              </a:rPr>
              <a:t>6.BIBLIOGRAF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Helie Jerome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Mic atlas istoric al Timpurilor moderne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, Polirom,20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lmas, Dumitru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derea Bastiliei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, Bucuresti, 195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Berstein Serge, Milza Pierre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Istoria Europei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, vol. 3, Iasi, Institutul European, 1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Ciachir Nicolae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Istorie universal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modern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, vol II, Bucuresti, Ed. Oscar Print, 1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www.e-scoala.ro/informatica/index.html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ro.wikipedia.org/wiki/Portal:Educaţie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onstantia"/>
              </a:rPr>
              <a:t>www.didactic.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www.referat</a:t>
            </a:r>
            <a:r>
              <a:rPr b="0" lang="ro-RO" sz="2600" spc="-1" strike="noStrike" u="sng">
                <a:solidFill>
                  <a:srgbClr val="000000"/>
                </a:solidFill>
                <a:uFillTx/>
                <a:latin typeface="Constantia"/>
              </a:rPr>
              <a:t>e.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o/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Evalu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RNA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 completat de fiecare dat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d realiza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c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 o sarcin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ȘĂ D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UTO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e completat dupa fiecare or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Ist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2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gandito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6"/>
          <p:cNvSpPr txBox="1"/>
          <p:nvPr/>
        </p:nvSpPr>
        <p:spPr>
          <a:xfrm>
            <a:off x="971640" y="5229360"/>
            <a:ext cx="69152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 ce vă gândiţi văzându-le?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u 3" descr=""/>
          <p:cNvPicPr/>
          <p:nvPr/>
        </p:nvPicPr>
        <p:blipFill>
          <a:blip r:embed="rId1"/>
          <a:stretch/>
        </p:blipFill>
        <p:spPr>
          <a:xfrm>
            <a:off x="158760" y="1322280"/>
            <a:ext cx="8729640" cy="1798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st2_1387447-floral-ornam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6"/>
          <p:cNvSpPr txBox="1"/>
          <p:nvPr/>
        </p:nvSpPr>
        <p:spPr>
          <a:xfrm>
            <a:off x="468360" y="4365720"/>
            <a:ext cx="80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Iata la ce m-am gandit propunandu-va aceste imagini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611280" y="5805360"/>
            <a:ext cx="7848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ata la ce m-am gândit propunandu-vă aceste imagini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5280" y="476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 rot="613200">
            <a:off x="1582200" y="1023840"/>
            <a:ext cx="75614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1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o-RO" sz="4100" spc="-1" strike="noStrike">
                <a:solidFill>
                  <a:srgbClr val="ff0000"/>
                </a:solidFill>
                <a:latin typeface="Calibri"/>
              </a:rPr>
              <a:t>Revoluțiile Epocii Moderne</a:t>
            </a:r>
            <a:br>
              <a:rPr sz="4100"/>
            </a:br>
            <a:r>
              <a:rPr b="0" lang="ro-RO" sz="2500" spc="-1" strike="noStrike">
                <a:solidFill>
                  <a:srgbClr val="00b050"/>
                </a:solidFill>
                <a:latin typeface="Calibri"/>
              </a:rPr>
              <a:t>Franceză                                 Engleză                      Americană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286000" y="2414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0" y="2214720"/>
            <a:ext cx="2905200" cy="4286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FFA8818C"/>
          <p:cNvPicPr/>
          <p:nvPr/>
        </p:nvPicPr>
        <p:blipFill>
          <a:blip r:embed="rId5"/>
          <a:stretch/>
        </p:blipFill>
        <p:spPr>
          <a:xfrm>
            <a:off x="3071880" y="2214720"/>
            <a:ext cx="2857320" cy="43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4" name="Picture 6" descr=""/>
          <p:cNvPicPr/>
          <p:nvPr/>
        </p:nvPicPr>
        <p:blipFill>
          <a:blip r:embed="rId6"/>
          <a:stretch/>
        </p:blipFill>
        <p:spPr>
          <a:xfrm>
            <a:off x="6072120" y="2214720"/>
            <a:ext cx="2976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357120" y="428760"/>
            <a:ext cx="8285400" cy="58140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9ca3"/>
                </a:solidFill>
                <a:latin typeface="Constantia"/>
              </a:rPr>
              <a:t>Cum pot fi evitate greșelile trecutul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187280" y="5516640"/>
            <a:ext cx="6624720" cy="1068840"/>
          </a:xfrm>
          <a:prstGeom prst="rect">
            <a:avLst/>
          </a:prstGeom>
          <a:solidFill>
            <a:srgbClr val="e2fee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9ca3"/>
                </a:solidFill>
                <a:latin typeface="Calibri"/>
              </a:rPr>
              <a:t>Cu fapte mărețe sau cu vorbe deșa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http://www.napocanews.ro/wp-content/uploads/2009/12/revolutie-bucuresti-buchet-de-flori.jpg"/>
          <p:cNvPicPr/>
          <p:nvPr/>
        </p:nvPicPr>
        <p:blipFill>
          <a:blip r:embed="rId1"/>
          <a:stretch/>
        </p:blipFill>
        <p:spPr>
          <a:xfrm>
            <a:off x="1571760" y="1000080"/>
            <a:ext cx="55004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76040" y="1182600"/>
            <a:ext cx="865044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395280" y="333360"/>
            <a:ext cx="820908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Vous devrez faire une balade imaginaire au fil de la Loire et vous découvrirez de magnifiques châteaux,des villes et des jardins superbes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</a:t>
            </a:r>
            <a:r>
              <a:rPr b="1" lang="en-US" sz="1800" spc="-1" strike="noStrike">
                <a:solidFill>
                  <a:srgbClr val="008000"/>
                </a:solidFill>
                <a:latin typeface="Arial Unicode MS"/>
              </a:rPr>
              <a:t>Va trebui sa faceti o calatorie imaginara de-a lungul Loarei si sa descoperiti magnificele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castele,orasele si superbele gradini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99"/>
                </a:solidFill>
                <a:latin typeface="Comic Sans MS"/>
              </a:rPr>
              <a:t>Puis vous devrez faire un project sur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,,La Vallée de la Loire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”.(</a:t>
            </a:r>
            <a:r>
              <a:rPr b="1" lang="en-US" sz="1600" spc="-1" strike="noStrike">
                <a:solidFill>
                  <a:srgbClr val="009900"/>
                </a:solidFill>
                <a:latin typeface="Calibri"/>
              </a:rPr>
              <a:t>Apoi va trebui sa faceti un proiect despre Valea Loare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alibri"/>
              </a:rPr>
              <a:t>                 </a:t>
            </a:r>
            <a:r>
              <a:rPr b="1" lang="en-US" sz="1600" spc="-1" strike="noStrike" u="sng">
                <a:solidFill>
                  <a:srgbClr val="009900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10336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324000" y="33336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Ve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ț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i face o c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latorie imaginar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în sec. al XVII-lea și al XVIII-lea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ș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i ve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ți descoperi evenimente care au schimbat lum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Veți realiz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un proiect despre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 celebrele revoluții burghe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716000" y="1699920"/>
            <a:ext cx="4038840" cy="45306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realizați comparații între mișcările revoluționar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rețineți evenimente și personalități deosebite implicate 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înțelegeți rolul și rostul unor astfel de eveniment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cunoașteți consecintele mișcărilor revoluționar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9280" y="1699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s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ă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 explica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i termen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i ca: revoluție, monarhie absolută, ghilotină, monarhie constituțională,et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sa 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înțelegeți cauzele revoluțiilor burgheze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s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ă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 folosi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i informatiile  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î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n scurte descrieri 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sa descrie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i  evenimente din istoria Fran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ei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,Angliei și S.U.A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.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468360" y="476280"/>
            <a:ext cx="8280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Calibri"/>
              </a:rPr>
              <a:t>IATĂ CE VEȚI ȘTI LA SFÂR</a:t>
            </a: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Ş</a:t>
            </a:r>
            <a:r>
              <a:rPr b="1" lang="ro-RO" sz="2400" spc="-1" strike="noStrike">
                <a:solidFill>
                  <a:srgbClr val="6600cc"/>
                </a:solidFill>
                <a:latin typeface="Calibri"/>
              </a:rPr>
              <a:t>ITUL PROIECTULUI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79280" y="836640"/>
            <a:ext cx="842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Comic Sans MS"/>
              </a:rPr>
              <a:t>Vom lucra astfel: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33cc"/>
                </a:solidFill>
                <a:uFillTx/>
                <a:latin typeface="Calibri"/>
              </a:rPr>
              <a:t>1.Împărțirea pe gr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3 grupe de câte 4 ele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Un elev din fiecare grupă va prezenta proiectul in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33cc"/>
                </a:solidFill>
                <a:uFillTx/>
                <a:latin typeface="Calibri"/>
              </a:rPr>
              <a:t>2.Alegerea mișcării revoluțio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48:22Z</dcterms:created>
  <dc:creator>Alexandra</dc:creator>
  <dc:description/>
  <dc:language>en-US</dc:language>
  <cp:lastModifiedBy>user</cp:lastModifiedBy>
  <dcterms:modified xsi:type="dcterms:W3CDTF">2010-05-26T14:06:26Z</dcterms:modified>
  <cp:revision>15</cp:revision>
  <dc:subject/>
  <dc:title>Slide 1</dc:title>
</cp:coreProperties>
</file>